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158-D4EB-4B12-8582-DE320E5A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87F-AC23-4955-94EE-1F398548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63C-EC24-41FB-BEBF-B6435113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479-A9BB-4A58-9DEA-78541885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CA1-6342-4677-AF56-96AFE098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C2C-25D2-4C1D-B225-8C580B52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F4D-856A-4E27-89C7-A12E6F53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977-D1F8-4ECC-A60F-D034265A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F39-AC32-4A88-BEA7-4601ABD7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42C-D367-46C4-AFEF-A45901D0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DD6-747D-43D6-B1C1-3CD48F8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439-6266-406D-8219-F810490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F4F6-6E52-4CEA-A2F3-47F49FD7867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547640" y="2349360"/>
            <a:ext cx="60501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Investigação Geológica e Geotécn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264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aspagem 01"/>
          <p:cNvPicPr/>
          <p:nvPr/>
        </p:nvPicPr>
        <p:blipFill>
          <a:blip r:embed="rId3"/>
          <a:stretch/>
        </p:blipFill>
        <p:spPr>
          <a:xfrm>
            <a:off x="533520" y="2781360"/>
            <a:ext cx="360684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12" descr="Jazida"/>
          <p:cNvPicPr/>
          <p:nvPr/>
        </p:nvPicPr>
        <p:blipFill>
          <a:blip r:embed="rId4"/>
          <a:stretch/>
        </p:blipFill>
        <p:spPr>
          <a:xfrm>
            <a:off x="5033880" y="2781360"/>
            <a:ext cx="357048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8000" y="1484280"/>
            <a:ext cx="892800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MAGE0143"/>
          <p:cNvPicPr/>
          <p:nvPr/>
        </p:nvPicPr>
        <p:blipFill>
          <a:blip r:embed="rId3"/>
          <a:stretch/>
        </p:blipFill>
        <p:spPr>
          <a:xfrm>
            <a:off x="250920" y="3141720"/>
            <a:ext cx="4101840" cy="30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12" descr="Gela 049"/>
          <p:cNvPicPr/>
          <p:nvPr/>
        </p:nvPicPr>
        <p:blipFill>
          <a:blip r:embed="rId4"/>
          <a:stretch/>
        </p:blipFill>
        <p:spPr>
          <a:xfrm>
            <a:off x="4788000" y="3141720"/>
            <a:ext cx="4103640" cy="30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Secagem"/>
          <p:cNvPicPr/>
          <p:nvPr/>
        </p:nvPicPr>
        <p:blipFill>
          <a:blip r:embed="rId3"/>
          <a:stretch/>
        </p:blipFill>
        <p:spPr>
          <a:xfrm>
            <a:off x="539640" y="2852640"/>
            <a:ext cx="3657600" cy="36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1" name="Picture 11" descr="IMAGE0038"/>
          <p:cNvPicPr/>
          <p:nvPr/>
        </p:nvPicPr>
        <p:blipFill>
          <a:blip r:embed="rId4"/>
          <a:stretch/>
        </p:blipFill>
        <p:spPr>
          <a:xfrm>
            <a:off x="4788000" y="3213000"/>
            <a:ext cx="396216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2050920" y="2755800"/>
            <a:ext cx="4861080" cy="391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Rectangle 10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4786200" y="2852640"/>
            <a:ext cx="3889440" cy="380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3363840" cy="379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Amostra indeformada"/>
          <p:cNvPicPr/>
          <p:nvPr/>
        </p:nvPicPr>
        <p:blipFill>
          <a:blip r:embed="rId3"/>
          <a:stretch/>
        </p:blipFill>
        <p:spPr>
          <a:xfrm>
            <a:off x="250920" y="2971800"/>
            <a:ext cx="3960720" cy="304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11" descr="amostra indeformada 02"/>
          <p:cNvPicPr/>
          <p:nvPr/>
        </p:nvPicPr>
        <p:blipFill>
          <a:blip r:embed="rId4"/>
          <a:stretch/>
        </p:blipFill>
        <p:spPr>
          <a:xfrm>
            <a:off x="4597560" y="2637000"/>
            <a:ext cx="4295520" cy="39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de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08000" y="1700280"/>
            <a:ext cx="89280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nidade geológica: é um corpo geológico espacialmente delimitado, com características específicas e comportamento similar face à determinad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rpo geológico: Camada, zona ou trecho capaz de ser delimitado em superfície e/ou em subsuperfície, com características e propriedades singula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ortamento similar: Comportamento semelhante face à mesm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licitação: Ação sobre o ambiente geológico imposta, induzida ou resultante da interação com a ocupação antróp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Unidades Ge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08000" y="1797120"/>
            <a:ext cx="8928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Toda unidade geológica está associada a um processo geológico específico, de tal sorte que o conhecimento dos processos que atuaram num local determinado é essencial para o conhecimento das unidades pres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ma unidade geológica pode ser constituída por um conjunto de camadas ou por camadas individualizadas, em conformidade com 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emplo: No caso de uma rodovia, uma camada de argila orgânica de um corpo aluvionar será considerada como uma unidade geológica, devido à possibilidade de induzir recalques do pavimento. Por outro lado, para fins de escavação, um conjunto de várias camadas de um aluvião, pode ser considerado como uma única unidade geológ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1268280"/>
            <a:ext cx="8928000" cy="52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izar as solicit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valiar as unidades geológicas presentes em função dos dados existentes, de reconhecimento geológico e outros méto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cionar os métodos de investigação aplicáveis em função das solicitações, unidades geológicas, fase dos estudos, logística, resolução, prazo, custo e outras variáveis e distribuir as investigações na área através de critérios geométrico e geoló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especificações executivas, procedimentos de fiscalização, critérios de medição e pagamento, contrato e lici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os resultados e ajustar o plano de investig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r os resultados e elaborar os modelos geológico e geomecâ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seções geológicas e outras formas de apresentação de dados conforme requer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a escolha da solução e o desenvolviment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rincipais limit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08000" y="1797120"/>
            <a:ext cx="892800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solução: capacidade do método de fornecer a informação desejada; a resolução de cada método pode variar conforme a solicitação ou ambien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azo: o prazo disponível para as investigações pode limitar ou até impedir a  aplicação de determinados métodos em função do tempo de execu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: o custo das investigações varia entre um e três por cento do custo do empreendimento ou obra, exceto em casos especiai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 x benefício: há um relação ótima entre o volume de investigação, que se reflete no custo das investigações e as informações obtidas, ou seja, o benefício alcanç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Geofí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08000" y="1341360"/>
            <a:ext cx="8928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sís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os mais empregados por refletirem as propriedades mecânicas das rochas e facilitam a interpretação e correlação com dados de sondagens dir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ísmica de refração (mais empregado); Sísmica de reflexão; Crosshole e tomografia sís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geoel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troresistividade (sondagem elétrica vertical e caminhamento elétrico); Potencial espontâneo; Condutividade (VLF); Radar de penetração (G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ros métodos geofí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ofísica subaquática (sonografia, ecobatimentria, magnetometria e gravime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08000" y="1003320"/>
            <a:ext cx="892800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ços: escavação manual, com enxadão, pá e sarilho, com seções de 1,0m2 de lado, atravessando as camadas de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undidade limitada pela presença de água, material instável e rocha; para prosseguir a escavação nessas condições são necessários procedimentos espe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ualização de grande extensão do material e a retirada de grandes volumes de amostra e de amostras indeform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ápido até 10m. Profundidade máxima em condições ideais: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ncheiras são escavações em forma de valeta; podem ser feitas mecanic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idados: instabilização das paredes; quedas de pessoas e animais (necessário cerca e cobertu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Gela 020"/>
          <p:cNvPicPr/>
          <p:nvPr/>
        </p:nvPicPr>
        <p:blipFill>
          <a:blip r:embed="rId2"/>
          <a:stretch/>
        </p:blipFill>
        <p:spPr>
          <a:xfrm>
            <a:off x="10944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10" descr="Gela 024"/>
          <p:cNvPicPr/>
          <p:nvPr/>
        </p:nvPicPr>
        <p:blipFill>
          <a:blip r:embed="rId3"/>
          <a:stretch/>
        </p:blipFill>
        <p:spPr>
          <a:xfrm>
            <a:off x="464328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Rectangle 11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ondagem a T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08000" y="1797120"/>
            <a:ext cx="89280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cavados manualmente com o auxílio de uma broca chamada trado, acoplada a hastes de aço de ¾ de polegadas e a um tê para imprimir o movimento giratóri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mente atravessa a camada de solo, sendo interrompidos pela ocorrência de quaisquer materiais mais duros (rocha alterada mole, linha de seixos, etc) e pela presença de água subterrâne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ermite a obtenção de grande volume de amostras deformad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étodo rápido e portátil; profundidade máxima em condições ideais: 25 a 30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3:50Z</dcterms:modified>
  <cp:revision>87</cp:revision>
  <dc:subject/>
  <dc:title>Slide 1</dc:title>
</cp:coreProperties>
</file>